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FB60-955B-46EC-B95C-89CA3E22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97C-B53A-4230-AEE5-59553426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516A-980A-42B0-B25E-3ADDA85B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C82-8D5A-4C0F-B4FF-B755133D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26A-15A2-4FB7-BF19-C0ADACA7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9C4-6092-439B-B2EB-773254AA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131-BBA3-4374-A3C5-1F1C86FC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C07-C4AD-4207-AFB4-121ACD92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1DA-0995-4305-A2C5-E1B46D72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3A42-6A7B-45CE-97C5-A50C578F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364D-75C1-448D-8C63-B1602C57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BADB-534A-4CF2-94AF-1B029C95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8BD4-5362-453B-BD6E-17161AB0A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228600"/>
            <a:ext cx="4727520" cy="35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الاتقا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لنجا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OUTPUT_000052" descr=""/>
          <p:cNvPicPr/>
          <p:nvPr/>
        </p:nvPicPr>
        <p:blipFill>
          <a:blip r:embed="rId2"/>
          <a:stretch/>
        </p:blipFill>
        <p:spPr>
          <a:xfrm>
            <a:off x="1371600" y="41148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370240" y="3195720"/>
            <a:ext cx="18208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جمال ماض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52480" y="2743200"/>
            <a:ext cx="5334120" cy="10666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286000" y="2932200"/>
            <a:ext cx="41911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طرق تحسي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قدرات الذهن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274760" y="1371600"/>
            <a:ext cx="6040440" cy="1279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79680" y="1538280"/>
            <a:ext cx="548640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يست مرضا ولكنها حالة عاب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حدث لأسباب خارحية مث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شاغل وضيق الوق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3886200"/>
            <a:ext cx="2971800" cy="160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324480" y="4102200"/>
            <a:ext cx="259560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ش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ذهن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3886200"/>
            <a:ext cx="2971800" cy="15238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348000" y="4079880"/>
            <a:ext cx="25956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غذا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تنو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5486400"/>
            <a:ext cx="2971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319800" y="5657760"/>
            <a:ext cx="259560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جن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وت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3886200"/>
            <a:ext cx="3124080" cy="160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43000" y="4102200"/>
            <a:ext cx="272880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سترح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ليل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5410080"/>
            <a:ext cx="2971800" cy="1524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348000" y="5603760"/>
            <a:ext cx="25956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ورق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قل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76320" y="5486400"/>
            <a:ext cx="312408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43000" y="5657760"/>
            <a:ext cx="272880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مار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رياض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152280"/>
            <a:ext cx="4191120" cy="1143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590920" y="453960"/>
            <a:ext cx="35082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حسين القدرات الذهن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274760" y="1371600"/>
            <a:ext cx="604044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579680" y="1447920"/>
            <a:ext cx="548640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مسح نظارتك أو بدلها بنظارة جديد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3886200"/>
            <a:ext cx="2971800" cy="160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705720" y="4102200"/>
            <a:ext cx="190980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سرتى ليس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نسجمة مع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3886200"/>
            <a:ext cx="2971800" cy="15238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581280" y="4079880"/>
            <a:ext cx="20574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أطي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درا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4" name=""/>
          <p:cNvSpPr/>
          <p:nvPr/>
        </p:nvSpPr>
        <p:spPr>
          <a:xfrm>
            <a:off x="6172200" y="5486400"/>
            <a:ext cx="2971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553080" y="5657760"/>
            <a:ext cx="198144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صديقى غ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فى مع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6" name=""/>
          <p:cNvSpPr/>
          <p:nvPr/>
        </p:nvSpPr>
        <p:spPr>
          <a:xfrm>
            <a:off x="76320" y="3886200"/>
            <a:ext cx="3124080" cy="160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4102200"/>
            <a:ext cx="219528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أحد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فهمن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يعرفن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5410080"/>
            <a:ext cx="2971800" cy="1524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657600" y="5603760"/>
            <a:ext cx="19670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تمن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غيير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در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76320" y="5486400"/>
            <a:ext cx="312408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00200" y="5657760"/>
            <a:ext cx="181440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يهتم ب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مى وأب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152280"/>
            <a:ext cx="4191120" cy="1143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90920" y="453960"/>
            <a:ext cx="35082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أيها المراه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2362320"/>
            <a:ext cx="863136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2514600"/>
            <a:ext cx="815328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قريبون يسيئون إلى فيرى العالم كما يحب أن يراه هو وليس كما العال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حوى الدنيا المتضادات هيا نمسح الغبارعن النظارة أو نستبدلها بنظارة أخر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438280" y="5500800"/>
            <a:ext cx="426744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666880" y="5638680"/>
            <a:ext cx="380700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قول الإمام على بن أبى طالب : الحلم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غطاء ساتر والعقل حسام قاطع فاست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خلل عقلك بحلمك وقاتل هواك بعقل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76320" y="1600200"/>
            <a:ext cx="2286000" cy="1308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76120" y="1816200"/>
            <a:ext cx="185760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نفوسنا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عقولنا كنوز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تحصى علين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كشفه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76320"/>
            <a:ext cx="7239240" cy="144756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447920" y="453960"/>
            <a:ext cx="60958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أيها المراهق أنظر إلى الحياة بايجاب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6781680" y="1616040"/>
            <a:ext cx="2362320" cy="12794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934320" y="1752480"/>
            <a:ext cx="2046240" cy="10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رى الجان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ملوء من الإنا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يس الفارغ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160020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876920" y="175248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يمان بأن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لكون مدبر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يخلق شر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160020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90920" y="1739880"/>
            <a:ext cx="1827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بحث عن المفي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كل شى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داد الذى يعي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صنيع النشا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2895480"/>
            <a:ext cx="2362320" cy="1279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934320" y="2971800"/>
            <a:ext cx="2046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فكر دائما ف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بناء وليس الهد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لا تحسد ولا تكر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2895480"/>
            <a:ext cx="2209680" cy="1295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648320" y="3048120"/>
            <a:ext cx="2057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حب أنفسنا دو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غرور ونحب الآخر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دون تبعية أو امتهان 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2895480"/>
            <a:ext cx="2209680" cy="1295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438280" y="3035160"/>
            <a:ext cx="1981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فاءلوا بالخ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جدوه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كثير فش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كنه نجح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76320" y="2895480"/>
            <a:ext cx="2286000" cy="1308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52280" y="2971800"/>
            <a:ext cx="20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واقع المر لا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تغير إلا بالتدريج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طرات الماء تقط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صخرة العظيم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76320" y="4191120"/>
            <a:ext cx="2286000" cy="13078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28600" y="4406760"/>
            <a:ext cx="1933560" cy="92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نجاح مرهو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العمل والصب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يس بالتمن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9" name=""/>
          <p:cNvSpPr/>
          <p:nvPr/>
        </p:nvSpPr>
        <p:spPr>
          <a:xfrm>
            <a:off x="6781680" y="4191120"/>
            <a:ext cx="236232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097760" y="4427640"/>
            <a:ext cx="181764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صائب كله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كم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نها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419112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48320" y="4343400"/>
            <a:ext cx="2057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عيوب يمك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صحيحها بالاتقا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ذنوب بالتوب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419112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592360" y="4330800"/>
            <a:ext cx="17510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حن مسئولو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 أنفسنا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غيرن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05" name=""/>
          <p:cNvSpPr/>
          <p:nvPr/>
        </p:nvSpPr>
        <p:spPr>
          <a:xfrm>
            <a:off x="6781680" y="548640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934320" y="5715000"/>
            <a:ext cx="2046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رضا نتائج أعمالن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تى ولو كانت صغي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جدد العزم ونتوك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ى الل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07" name=""/>
          <p:cNvSpPr/>
          <p:nvPr/>
        </p:nvSpPr>
        <p:spPr>
          <a:xfrm>
            <a:off x="76320" y="5486400"/>
            <a:ext cx="2286000" cy="1308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28600" y="5562720"/>
            <a:ext cx="19810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حب الصحة والقو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علم والثقافةوالتفو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نسامح ولا نعاد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981080" y="0"/>
            <a:ext cx="525780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523880"/>
            <a:ext cx="4267080" cy="6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170964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31840" y="1600200"/>
            <a:ext cx="3806640" cy="4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ذه المهمة ليست سهلة ولكن أستطيع القيام به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133720"/>
            <a:ext cx="4267080" cy="5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228600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4120" y="2224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دىء أعصاب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666880"/>
            <a:ext cx="4267080" cy="54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274320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0040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335268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809880"/>
            <a:ext cx="4267080" cy="6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43400" y="388620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4419720"/>
            <a:ext cx="4267080" cy="5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449568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91440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43400" y="103824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4120" y="100476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أفضل أن نقو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4952880"/>
            <a:ext cx="4267080" cy="54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43400" y="502920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7800" y="5105520"/>
            <a:ext cx="3578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حتاج إلى حركة ونشا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0" y="5485680"/>
            <a:ext cx="42670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561816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971800" y="166680"/>
            <a:ext cx="327672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اموس الايجاب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0" y="6171480"/>
            <a:ext cx="42670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0880" y="5653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جب أن أتقو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0880" y="63388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ا شجا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37" name=""/>
          <p:cNvSpPr/>
          <p:nvPr/>
        </p:nvSpPr>
        <p:spPr>
          <a:xfrm>
            <a:off x="4343400" y="630396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76920" y="1523880"/>
            <a:ext cx="4267080" cy="6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6920" y="2133720"/>
            <a:ext cx="4267080" cy="5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261040" y="2224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لا تغضب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2666880"/>
            <a:ext cx="4267080" cy="54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76920" y="320040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809880"/>
            <a:ext cx="4267080" cy="6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6920" y="4419720"/>
            <a:ext cx="4267080" cy="5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76920" y="91440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261040" y="1066680"/>
            <a:ext cx="32734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بدلا من القو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47" name=""/>
          <p:cNvSpPr/>
          <p:nvPr/>
        </p:nvSpPr>
        <p:spPr>
          <a:xfrm>
            <a:off x="4876920" y="4952880"/>
            <a:ext cx="4267080" cy="54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184720" y="5105520"/>
            <a:ext cx="3578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أشعر بكس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876920" y="5485680"/>
            <a:ext cx="42670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876920" y="6171480"/>
            <a:ext cx="42670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257800" y="5653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أشعر بضعف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257800" y="63388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لا أخاف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105520" y="2743200"/>
            <a:ext cx="3886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هذا اليوم شاق بالعم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257800" y="329076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لا أستطي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257800" y="3900600"/>
            <a:ext cx="350208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أظن أننى سأنجح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257800" y="4510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لا أعتقد أنه يتحقق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0880" y="2757600"/>
            <a:ext cx="350208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ذا اليوم مفعم بالعم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4920" y="4510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آمل أن يتحق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7800" y="388620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إن شاء الله سأنجح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7800" y="329076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سوف أحاول وأسع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52880" y="1614600"/>
            <a:ext cx="41148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هذا عمل صعب أو هذه المهمة صعبة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905120" y="76320"/>
            <a:ext cx="533376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600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خمسة أسرار عملية للتفوق والنجاح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365" name=""/>
          <p:cNvSpPr/>
          <p:nvPr/>
        </p:nvSpPr>
        <p:spPr>
          <a:xfrm>
            <a:off x="73580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746748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عتمد عل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كثر من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اسة ف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فظ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/>
          <p:nvPr/>
        </p:nvSpPr>
        <p:spPr>
          <a:xfrm>
            <a:off x="55292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64192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ذل الجه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ملازم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ذات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73152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2880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98108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ل الح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و عل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فس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73" name=""/>
          <p:cNvSpPr/>
          <p:nvPr/>
        </p:nvSpPr>
        <p:spPr>
          <a:xfrm>
            <a:off x="3646440" y="1905120"/>
            <a:ext cx="191628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733920" y="2098800"/>
            <a:ext cx="167328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نظر إلى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جان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يجاب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920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شجاع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قناع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حكم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77" name=""/>
          <p:cNvSpPr/>
          <p:nvPr/>
        </p:nvSpPr>
        <p:spPr>
          <a:xfrm>
            <a:off x="36576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733920" y="3505320"/>
            <a:ext cx="1596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مر عيسى وحواريوه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على جثة كلب فقالوا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 </a:t>
            </a: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ما أنتن جيفة هذا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الكلب فقال عيسى</a:t>
            </a: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: 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أنظروا إلى أسنانه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ما أشد بياضها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905120" y="3886200"/>
            <a:ext cx="1596960" cy="24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قول أحد الأدباء :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إن أنت قلتها م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وإن سكت م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قلها إذن ومت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9200" y="3581280"/>
            <a:ext cx="15973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إلهى اعطنى الشجاعة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فى القدرة على تغيير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الأشياء التى أقدر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على تغييرها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والقناعة على تقبل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الأشياء التى لا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يمكننى تغييرها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والحكمة على معرفة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الفرق بين الاثنين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391520" y="3657600"/>
            <a:ext cx="167616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قراءة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تسمع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2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ترى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3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ترى وتسمع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5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مما تقوله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8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مما تقول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وتسمع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9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638680" y="3657600"/>
            <a:ext cx="1524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شتهر عبد الرحمن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بن أبى حاتم الرازى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صاحب الكتاب العظيم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( </a:t>
            </a: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لجرح والتعديل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)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بملازمته لوالده وكثرة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لأخذ عنه وكان يقول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ربما كان يأكل وأقرأ عليه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ويمشى وأقرأ عليه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ويدخل البيت وأقرأ عليه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533520" y="228600"/>
            <a:ext cx="4727520" cy="35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الاتقا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لنجا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163600" y="4114800"/>
            <a:ext cx="2192400" cy="18352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2370240" y="3195720"/>
            <a:ext cx="18208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جمال ماض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340000" y="5978520"/>
            <a:ext cx="18208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مع تحيات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1080" y="7632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3828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قاوم الإهمال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6148440" y="1981080"/>
            <a:ext cx="2895480" cy="327672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276720"/>
              <a:gd name="textAreaBottom" fmla="*/ 3135600 h 3276720"/>
            </a:gdLst>
            <a:ahLst/>
            <a:rect l="textAreaLeft" t="textAreaTop" r="textAreaRight" b="textAreaBottom"/>
            <a:pathLst>
              <a:path w="21600" h="24444">
                <a:moveTo>
                  <a:pt x="3600" y="0"/>
                </a:moveTo>
                <a:arcTo wR="3600" hR="3600" stAng="16200000" swAng="-5400000"/>
                <a:lnTo>
                  <a:pt x="0" y="20844"/>
                </a:lnTo>
                <a:arcTo wR="3600" hR="3600" stAng="10800000" swAng="-5400000"/>
                <a:lnTo>
                  <a:pt x="18000" y="24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334120"/>
            <a:ext cx="8534520" cy="714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5421240"/>
            <a:ext cx="830592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إن أى تساهل أو إهمال فى الأمور الصغيرة يصل إلى الأمور الكبير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176640" y="1981080"/>
            <a:ext cx="2965320" cy="3276720"/>
          </a:xfrm>
          <a:custGeom>
            <a:avLst/>
            <a:gdLst>
              <a:gd name="textAreaLeft" fmla="*/ 144720 w 2965320"/>
              <a:gd name="textAreaRight" fmla="*/ 2820600 w 2965320"/>
              <a:gd name="textAreaTop" fmla="*/ 144720 h 3276720"/>
              <a:gd name="textAreaBottom" fmla="*/ 3132000 h 3276720"/>
            </a:gdLst>
            <a:ahLst/>
            <a:rect l="textAreaLeft" t="textAreaTop" r="textAreaRight" b="textAreaBottom"/>
            <a:pathLst>
              <a:path w="21600" h="23868">
                <a:moveTo>
                  <a:pt x="3600" y="0"/>
                </a:moveTo>
                <a:arcTo wR="3600" hR="3600" stAng="16200000" swAng="-5400000"/>
                <a:lnTo>
                  <a:pt x="0" y="20268"/>
                </a:lnTo>
                <a:arcTo wR="3600" hR="3600" stAng="10800000" swAng="-5400000"/>
                <a:lnTo>
                  <a:pt x="18000" y="23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313080" y="2133720"/>
            <a:ext cx="2683080" cy="28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افىء أو عاقب نفسك :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حرم نفسك م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راحة أو العم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ذى تحبه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48520" y="2133720"/>
            <a:ext cx="2619360" cy="28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سأل نفسك :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لماذا أقوم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بهذا العمل ؟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ماذا يحدث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لو تركت العمل ؟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ماذا سيحدث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لو تأخر العمل ؟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981080"/>
            <a:ext cx="2949480" cy="3276720"/>
          </a:xfrm>
          <a:custGeom>
            <a:avLst/>
            <a:gdLst>
              <a:gd name="textAreaLeft" fmla="*/ 144000 w 2949480"/>
              <a:gd name="textAreaRight" fmla="*/ 2805480 w 2949480"/>
              <a:gd name="textAreaTop" fmla="*/ 144000 h 3276720"/>
              <a:gd name="textAreaBottom" fmla="*/ 3132720 h 3276720"/>
            </a:gdLst>
            <a:ahLst/>
            <a:rect l="textAreaLeft" t="textAreaTop" r="textAreaRight" b="textAreaBottom"/>
            <a:pathLst>
              <a:path w="21600" h="23996">
                <a:moveTo>
                  <a:pt x="3600" y="0"/>
                </a:moveTo>
                <a:arcTo wR="3600" hR="3600" stAng="16200000" swAng="-5400000"/>
                <a:lnTo>
                  <a:pt x="0" y="20396"/>
                </a:lnTo>
                <a:arcTo wR="3600" hR="3600" stAng="10800000" swAng="-5400000"/>
                <a:lnTo>
                  <a:pt x="18000" y="23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79440" y="2162160"/>
            <a:ext cx="2668680" cy="28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حاسب نفسك : تمم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أعمالك حتى تستمت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بوقت مرحك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143760"/>
            <a:ext cx="8534520" cy="714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6230880"/>
            <a:ext cx="830592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قصة حديث سعد بن معاذ وقول النبى عند قبره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81080" y="7632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3828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سيطر على نفسك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6148440" y="1981080"/>
            <a:ext cx="289548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23000" y="4876920"/>
            <a:ext cx="2192400" cy="1143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0" y="4986360"/>
            <a:ext cx="182880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طرق السيطر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ثلاث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3176640" y="1981080"/>
            <a:ext cx="296532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313080" y="2133720"/>
            <a:ext cx="268308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رد بذاته الايجابية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ضعيفة ولكن لا بد م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يجابية جماعية وإلا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ستسلم الفرد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ايجابى لسلبية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مجمو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48520" y="2133720"/>
            <a:ext cx="261936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انسان استطاع أ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سيطر على الآليا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والكون والفضاء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والأرض ولكنه فش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فى السيطرة عل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نفسه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981080"/>
            <a:ext cx="294948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2171880"/>
            <a:ext cx="266868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انسان العاقل يستطي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أن يحول الانهزام إل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نصر والسلبية إل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يجابية والانكسار إل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رتفاع بأن يجيد فنو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تعامل مع السلبيا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143760"/>
            <a:ext cx="8382240" cy="714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6230880"/>
            <a:ext cx="815652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ومقياس نجاح ذلك على أمر واحد : وضوح الهدف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4876920"/>
            <a:ext cx="213336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4876920"/>
            <a:ext cx="213372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4876920"/>
            <a:ext cx="213372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5105520"/>
            <a:ext cx="16002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معرفة الانسان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وفن معاملته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14600" y="5105520"/>
            <a:ext cx="16002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أعمال 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وأنواعها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5105520"/>
            <a:ext cx="16002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حاجات الأساسي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للفرد والمجتمع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81080" y="7632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43828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حول الفشل إلى نجاح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3124080"/>
            <a:ext cx="431964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3124080"/>
            <a:ext cx="449568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71680" y="3276720"/>
            <a:ext cx="392400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لا الفشل لم أوفق لحد الآ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لا الفشل يعنى تعلمت شيئا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لا اخترت طريقا آخر لمراد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لا لدى الحجة للبداية من جديد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عنى على المحاولة والسع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924440" y="3276720"/>
            <a:ext cx="376236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شل أنت انسان فاشل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شل أنك لم تفعل شيئا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شل أنك لن تصل لمرادك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شل أنك أتلفت حياتك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عنى عليك الرضوخ للواق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5943600"/>
            <a:ext cx="838224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5943600"/>
            <a:ext cx="815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أديسون :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80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محاولة فاشلة قبل أن يخترع الكهرباء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نجاح والتفوق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% الهام +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99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% جهد واجتهاد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2057400"/>
            <a:ext cx="213372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2057400"/>
            <a:ext cx="213372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72200" y="2286000"/>
            <a:ext cx="16002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قول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00200" y="2286000"/>
            <a:ext cx="16002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معنى الحقيقى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81080" y="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38280" y="380880"/>
            <a:ext cx="446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قض على التوتر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752480"/>
            <a:ext cx="8458200" cy="2971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46000" y="2114640"/>
            <a:ext cx="73836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 </a:t>
            </a: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كفاية من النوم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8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ساعات والحصول على الراحة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دقائق فترة الظهير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بدء بالحضروات والفاكهة بكميات كبيرة وحفض كميات اللحوم والدسم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حرص على التمرينات الرياضية يفرز الجسم الايدرفين المهدىء للمزاج 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70040" y="3352680"/>
            <a:ext cx="7383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نفس عميق وطويل وإخراجه ببطء يقلل من ضربات القلب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قضاء وقت مع أصدقاء مرحين يتمتعون بالايجابية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بحث عن الضحك لتأثيره الايجابى فى دفع الاكتئاب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648320"/>
            <a:ext cx="8458200" cy="2209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4775040"/>
            <a:ext cx="7383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ي دراسة أمريك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وجد التسامح فى داخلك واعط للآخرين أعذار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رغ مشاعر الغضب والخوف على ورق ثم مزقه وارم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5715000"/>
            <a:ext cx="738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تتعلم الصمت أثناء الغضب فلا داعى للكلام وأنت متوتر 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لا تحكم على الآخرين فلست زعيم الكون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كن عطوفا على نفسك فلا تجلدها ولكن لا تضيع الفرص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استعن بالأصدقاء والأقارب والاخوان فى حل المشكلة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81080" y="205740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38280" y="2438280"/>
            <a:ext cx="446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خطوات التغيير العشرة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38088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315200" y="57456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خطوات تغي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الة النفس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ربع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599080" y="76320"/>
            <a:ext cx="1541520" cy="1904760"/>
          </a:xfrm>
          <a:custGeom>
            <a:avLst/>
            <a:gdLst>
              <a:gd name="textAreaLeft" fmla="*/ 75240 w 1541520"/>
              <a:gd name="textAreaRight" fmla="*/ 1466280 w 1541520"/>
              <a:gd name="textAreaTop" fmla="*/ 75240 h 1904760"/>
              <a:gd name="textAreaBottom" fmla="*/ 1829520 h 1904760"/>
            </a:gdLst>
            <a:ahLst/>
            <a:rect l="textAreaLeft" t="textAreaTop" r="textAreaRight" b="textAreaBottom"/>
            <a:pathLst>
              <a:path w="21600" h="26689">
                <a:moveTo>
                  <a:pt x="3600" y="0"/>
                </a:moveTo>
                <a:arcTo wR="3600" hR="3600" stAng="16200000" swAng="-5400000"/>
                <a:lnTo>
                  <a:pt x="0" y="23089"/>
                </a:lnTo>
                <a:arcTo wR="3600" hR="3600" stAng="10800000" swAng="-5400000"/>
                <a:lnTo>
                  <a:pt x="18000" y="266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791320" y="270000"/>
            <a:ext cx="11937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عتراف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الخطأ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تتجاه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لم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3843360" y="76320"/>
            <a:ext cx="1566720" cy="1904760"/>
          </a:xfrm>
          <a:custGeom>
            <a:avLst/>
            <a:gdLst>
              <a:gd name="textAreaLeft" fmla="*/ 76320 w 1566720"/>
              <a:gd name="textAreaRight" fmla="*/ 1490400 w 1566720"/>
              <a:gd name="textAreaTop" fmla="*/ 76320 h 1904760"/>
              <a:gd name="textAreaBottom" fmla="*/ 1828440 h 1904760"/>
            </a:gdLst>
            <a:ahLst/>
            <a:rect l="textAreaLeft" t="textAreaTop" r="textAreaRight" b="textAreaBottom"/>
            <a:pathLst>
              <a:path w="21600" h="26259">
                <a:moveTo>
                  <a:pt x="3600" y="0"/>
                </a:moveTo>
                <a:arcTo wR="3600" hR="3600" stAng="16200000" swAng="-5400000"/>
                <a:lnTo>
                  <a:pt x="0" y="22659"/>
                </a:lnTo>
                <a:arcTo wR="3600" hR="3600" stAng="10800000" swAng="-5400000"/>
                <a:lnTo>
                  <a:pt x="18000" y="2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86200" y="270000"/>
            <a:ext cx="13683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سئو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ما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حس ب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76320"/>
            <a:ext cx="1600200" cy="190476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1904760"/>
              <a:gd name="textAreaBottom" fmla="*/ 1826640 h 1904760"/>
            </a:gdLst>
            <a:ahLst/>
            <a:rect l="textAreaLeft" t="textAreaTop" r="textAreaRight" b="textAreaBottom"/>
            <a:pathLst>
              <a:path w="21600" h="25710">
                <a:moveTo>
                  <a:pt x="3600" y="0"/>
                </a:moveTo>
                <a:arcTo wR="3600" hR="3600" stAng="16200000" swAng="-5400000"/>
                <a:lnTo>
                  <a:pt x="0" y="22110"/>
                </a:lnTo>
                <a:arcTo wR="3600" hR="3600" stAng="10800000" swAng="-5400000"/>
                <a:lnTo>
                  <a:pt x="18000" y="25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82680" y="270000"/>
            <a:ext cx="139860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ل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جم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حرر 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أوها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295200" y="76320"/>
            <a:ext cx="1533600" cy="1904760"/>
          </a:xfrm>
          <a:custGeom>
            <a:avLst/>
            <a:gdLst>
              <a:gd name="textAreaLeft" fmla="*/ 74880 w 1533600"/>
              <a:gd name="textAreaRight" fmla="*/ 1458720 w 1533600"/>
              <a:gd name="textAreaTop" fmla="*/ 74880 h 1904760"/>
              <a:gd name="textAreaBottom" fmla="*/ 1829880 h 1904760"/>
            </a:gdLst>
            <a:ahLst/>
            <a:rect l="textAreaLeft" t="textAreaTop" r="textAreaRight" b="textAreaBottom"/>
            <a:pathLst>
              <a:path w="21600" h="26826">
                <a:moveTo>
                  <a:pt x="3600" y="0"/>
                </a:moveTo>
                <a:arcTo wR="3600" hR="3600" stAng="16200000" swAng="-5400000"/>
                <a:lnTo>
                  <a:pt x="0" y="23226"/>
                </a:lnTo>
                <a:arcTo wR="3600" hR="3600" stAng="10800000" swAng="-5400000"/>
                <a:lnTo>
                  <a:pt x="18000" y="268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12920" y="326880"/>
            <a:ext cx="1339560" cy="134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تضي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قتك ف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وم الآخر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أنهم السب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467480" y="4079880"/>
            <a:ext cx="159732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 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ستطي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غي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627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 قاد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ى صنع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غي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7339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 محاس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ى كل قو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و فعل أو حرك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3915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تقيد نفس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طريقة التغي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هى ستأت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5627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جتهد بالمتاح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ا تنتظ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ثال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051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 تؤ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التغيير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لتزم ب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339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متل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وع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كيا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9051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حل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خي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مار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63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ذات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و المسئول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فرد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3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غ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ول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05120" y="76320"/>
            <a:ext cx="533376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362320" y="457200"/>
            <a:ext cx="4465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جعل الحظوظ حظوظا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335268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9880" y="3546360"/>
            <a:ext cx="159732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ظوظ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0"/>
            <a:ext cx="1541520" cy="1905120"/>
          </a:xfrm>
          <a:custGeom>
            <a:avLst/>
            <a:gdLst>
              <a:gd name="textAreaLeft" fmla="*/ 75240 w 1541520"/>
              <a:gd name="textAreaRight" fmla="*/ 1466280 w 1541520"/>
              <a:gd name="textAreaTop" fmla="*/ 75240 h 1905120"/>
              <a:gd name="textAreaBottom" fmla="*/ 1829880 h 1905120"/>
            </a:gdLst>
            <a:ahLst/>
            <a:rect l="textAreaLeft" t="textAreaTop" r="textAreaRight" b="textAreaBottom"/>
            <a:pathLst>
              <a:path w="21600" h="26694">
                <a:moveTo>
                  <a:pt x="3600" y="0"/>
                </a:moveTo>
                <a:arcTo wR="3600" hR="3600" stAng="16200000" swAng="-5400000"/>
                <a:lnTo>
                  <a:pt x="0" y="23094"/>
                </a:lnTo>
                <a:arcTo wR="3600" hR="3600" stAng="10800000" swAng="-5400000"/>
                <a:lnTo>
                  <a:pt x="18000" y="266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44520" y="193680"/>
            <a:ext cx="11937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ظوظ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خارج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7424640" y="0"/>
            <a:ext cx="1567080" cy="1905120"/>
          </a:xfrm>
          <a:custGeom>
            <a:avLst/>
            <a:gdLst>
              <a:gd name="textAreaLeft" fmla="*/ 76320 w 1567080"/>
              <a:gd name="textAreaRight" fmla="*/ 1490760 w 1567080"/>
              <a:gd name="textAreaTop" fmla="*/ 76320 h 1905120"/>
              <a:gd name="textAreaBottom" fmla="*/ 1828800 h 1905120"/>
            </a:gdLst>
            <a:ahLst/>
            <a:rect l="textAreaLeft" t="textAreaTop" r="textAreaRight" b="textAreaBottom"/>
            <a:pathLst>
              <a:path w="21600" h="26258">
                <a:moveTo>
                  <a:pt x="3600" y="0"/>
                </a:moveTo>
                <a:arcTo wR="3600" hR="3600" stAng="16200000" swAng="-5400000"/>
                <a:lnTo>
                  <a:pt x="0" y="22658"/>
                </a:lnTo>
                <a:arcTo wR="3600" hR="3600" stAng="10800000" swAng="-5400000"/>
                <a:lnTo>
                  <a:pt x="18000" y="262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467480" y="193680"/>
            <a:ext cx="136872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ظوظ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داخل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73580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51032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جس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وج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جمي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55292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0556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جيو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فاء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حرك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35268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354636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درج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م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شهاد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4800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391520" y="49942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فو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م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ميز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4800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562720" y="49942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د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ذكا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فطن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98108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جاح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فو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جائ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335268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477120" y="354636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و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روح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يمان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4800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05120" y="49942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سائ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اد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تاح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632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اقا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رأ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ا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800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320" y="49942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حي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ثقاف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م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1828800"/>
            <a:ext cx="485640" cy="1509840"/>
          </a:xfrm>
          <a:prstGeom prst="upArrow">
            <a:avLst>
              <a:gd name="adj1" fmla="val 50000"/>
              <a:gd name="adj2" fmla="val 7772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4800600"/>
            <a:ext cx="485640" cy="1371600"/>
          </a:xfrm>
          <a:prstGeom prst="downArrow">
            <a:avLst>
              <a:gd name="adj1" fmla="val 50000"/>
              <a:gd name="adj2" fmla="val 7060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6288120"/>
            <a:ext cx="8382240" cy="493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6324480"/>
            <a:ext cx="815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لثقة بالنفس تعنى قبول المرء بحالته الحاضرة وتحسينها وتطويرها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05120" y="76320"/>
            <a:ext cx="533376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600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خمس طرق لإطالة العمر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73580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1032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إقلا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دخ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55292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0556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إقلا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كافي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467480" y="3505320"/>
            <a:ext cx="1600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يزيد 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30 </a:t>
            </a: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عاما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إلى العمر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98108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بتعاد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سمن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3646440" y="1905120"/>
            <a:ext cx="191628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733920" y="2098800"/>
            <a:ext cx="167328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ن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أغذ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حفوظ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632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مار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مرينا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رياض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733920" y="3581280"/>
            <a:ext cx="1596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المواد الحافظة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تؤثر سلبيا على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الجهاز الهضمى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الاستعاضة 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بالفاكهة الموسمية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905120" y="3886200"/>
            <a:ext cx="1596960" cy="24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لحفظ القلب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وتجنب السكر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جب الابتعاد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عن الدسم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9200" y="3962520"/>
            <a:ext cx="1597320" cy="24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يضيف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إلى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العمر 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7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سنوات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543800" y="4572000"/>
            <a:ext cx="1368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إقلاع باعتدال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ضيف 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4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سنوا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391520" y="5562720"/>
            <a:ext cx="1676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لو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3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علب فى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يوم تساوى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خسارة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8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عاما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من العمر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38680" y="3581280"/>
            <a:ext cx="15242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لو 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5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فنجان قهوة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فى اليوم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تساوى 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500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مليجرام كفايين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562720" y="5410080"/>
            <a:ext cx="1676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لو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2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فنجان + تدخين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نقص =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2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عاما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905120" y="3124080"/>
            <a:ext cx="5333760" cy="7621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0" y="3270240"/>
            <a:ext cx="446580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طرق التغلب على الإحبا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5529240" y="2133720"/>
            <a:ext cx="1709640" cy="99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910120" y="2270160"/>
            <a:ext cx="110016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عو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مسيرة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يا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1337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133720" y="2286000"/>
            <a:ext cx="106668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جز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نجاز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3646440" y="2133720"/>
            <a:ext cx="1916280" cy="99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038480" y="2286000"/>
            <a:ext cx="114300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جع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شاب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كهل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1337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270160"/>
            <a:ext cx="106668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مو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غمو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كثي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76320"/>
            <a:ext cx="4876920" cy="974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8600" y="136440"/>
            <a:ext cx="442908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حباط هو التوتر إلى حد الاستسلا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شعور بالعجز والرغبة فى الانطواء والعزل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5529240" y="1143000"/>
            <a:ext cx="1709640" cy="99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910120" y="1279440"/>
            <a:ext cx="110016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ضغو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جتماع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143000"/>
            <a:ext cx="1828800" cy="99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133720" y="1295280"/>
            <a:ext cx="106668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عم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أس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3646440" y="1143000"/>
            <a:ext cx="1916280" cy="99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038480" y="1295280"/>
            <a:ext cx="114300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ضعو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فس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467480" y="4079880"/>
            <a:ext cx="159732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نفي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النفس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عمي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5627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فريغ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صاح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7339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بكا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394400" y="5527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بسي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لح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للتعقي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5627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وايا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مار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مت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9051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خروج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واء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طل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7339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نسيا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إسعا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آخر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051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ز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جزء 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علاج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63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سترجا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63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غذ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روت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سل وقرف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43000"/>
            <a:ext cx="1828800" cy="99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880" y="1279440"/>
            <a:ext cx="106704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طري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صح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0"/>
            <a:ext cx="4191120" cy="1143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257800" y="301680"/>
            <a:ext cx="35082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كيف تقاوم الإحباط 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990720"/>
            <a:ext cx="1524240" cy="1295280"/>
          </a:xfrm>
          <a:prstGeom prst="leftArrow">
            <a:avLst>
              <a:gd name="adj1" fmla="val 50000"/>
              <a:gd name="adj2" fmla="val 29419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696080" y="1355760"/>
            <a:ext cx="10638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أسبابه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2057400"/>
            <a:ext cx="1524240" cy="1295280"/>
          </a:xfrm>
          <a:prstGeom prst="leftArrow">
            <a:avLst>
              <a:gd name="adj1" fmla="val 50000"/>
              <a:gd name="adj2" fmla="val 29419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96080" y="2422440"/>
            <a:ext cx="10638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نتائجه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8:01:39Z</dcterms:created>
  <dc:creator> </dc:creator>
  <dc:description/>
  <dc:language>en-US</dc:language>
  <cp:lastModifiedBy>Gamal</cp:lastModifiedBy>
  <dcterms:modified xsi:type="dcterms:W3CDTF">2007-05-13T14:12:10Z</dcterms:modified>
  <cp:revision>52</cp:revision>
  <dc:subject/>
  <dc:title>عرض تقديمي من PowerPoint</dc:title>
</cp:coreProperties>
</file>